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jpeg" ContentType="image/jpeg"/>
  <Override PartName="/ppt/media/image21.jpeg" ContentType="image/jpeg"/>
  <Override PartName="/ppt/media/image29.png" ContentType="image/png"/>
  <Override PartName="/ppt/media/image28.jpeg" ContentType="image/jpeg"/>
  <Override PartName="/ppt/media/image9.jpeg" ContentType="image/jpeg"/>
  <Override PartName="/ppt/media/image11.jpeg" ContentType="image/jpeg"/>
  <Override PartName="/ppt/media/image20.png" ContentType="image/png"/>
  <Override PartName="/ppt/media/image36.jpeg" ContentType="image/jpeg"/>
  <Override PartName="/ppt/media/image7.wmf" ContentType="image/x-wmf"/>
  <Override PartName="/ppt/media/image13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932-3276-4B33-BBC7-7E837B17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39F-939C-4E13-B6EE-15BDF770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F5A-AA17-423F-AD48-2453DD9D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306-BA4F-4860-97B4-09D895CB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66E3-AD27-420D-96D7-4651C04B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D0C4-12A0-45FE-BD68-AEA93AE2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8465-E024-4AA8-82A6-AF9871C5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EEBE-FE9E-44E0-AEC3-9B3D3C27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5A43-9187-4501-B47D-9C39869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464C-7809-4A8D-BC20-FE0D0828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4C3B-FEC0-49A6-94E6-3CDA8960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ED3-D14B-4529-A27A-2A04B606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4FF5-BD46-4BB1-A217-F3861CF3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5B8A-0390-4C0E-9352-70F7BB6D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54E1-0354-4D30-A31B-0801459C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288A-4065-433E-8119-A769F607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ABCF-7E3B-4D15-9F11-B775378B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550-49AC-4C63-BBA5-205A649F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198-1070-4E15-8364-6F44697F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A37-5991-4F2A-A89A-F9E46ED0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9CF-542D-4267-8187-6C5AD90C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908-7B8A-4040-B1A0-AF36B4F4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E85-9C98-4040-A604-7BD73E1A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BA6-0CAC-4406-8299-00A5E11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89B4-5FE4-4415-9E00-CD68522CB3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3011-5F09-4673-A436-3F7C98114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1280" y="1052280"/>
            <a:ext cx="5832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Подзаголовок 2" descr=""/>
          <p:cNvPicPr/>
          <p:nvPr/>
        </p:nvPicPr>
        <p:blipFill>
          <a:blip r:embed="rId1"/>
          <a:stretch/>
        </p:blipFill>
        <p:spPr>
          <a:xfrm>
            <a:off x="2266920" y="1195560"/>
            <a:ext cx="6121440" cy="31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BELLS7"/>
          <p:cNvPicPr/>
          <p:nvPr/>
        </p:nvPicPr>
        <p:blipFill>
          <a:blip r:embed="rId2"/>
          <a:stretch/>
        </p:blipFill>
        <p:spPr>
          <a:xfrm rot="19974600">
            <a:off x="6225840" y="4719240"/>
            <a:ext cx="20858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826920" y="341280"/>
            <a:ext cx="7885440" cy="19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стоятельно прочитайте в учебнике на странице 126, как нужно беречь зр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4176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611280" y="3538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«Гигиена органа зр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Не трогай глаза грязными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Остерегайся остры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Не наклоняй голову близко к книге, расстояние должно быть около 30 санти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е читай в транспор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Не читай л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Не смотри долго телевизор, и не сиди часами за компью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.Не читай при плохом освещении и береги глаза от яркого света и вспы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8.Выполняй упражнения для отдыха гл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6804000" y="4724280"/>
            <a:ext cx="1967040" cy="172908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187280" y="5229360"/>
            <a:ext cx="54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узнали, что к органам чувств  относятся орган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рен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Физкультминутка</a:t>
            </a: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для</a:t>
            </a: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лаз</a:t>
            </a: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Посмотри вверх-вни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Посмотри направо-нале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Посмотри вдаль- на кончик н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Закрой глаза, не открывай, пока н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осчитаешь до 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Photo Noise of the mountain river by Vladimir Malyugin - lan…"/>
          <p:cNvPicPr/>
          <p:nvPr/>
        </p:nvPicPr>
        <p:blipFill>
          <a:blip r:embed="rId1"/>
          <a:stretch/>
        </p:blipFill>
        <p:spPr>
          <a:xfrm>
            <a:off x="468360" y="333360"/>
            <a:ext cx="8353440" cy="6240600"/>
          </a:xfrm>
          <a:prstGeom prst="rect">
            <a:avLst/>
          </a:prstGeom>
          <a:ln w="0">
            <a:noFill/>
          </a:ln>
        </p:spPr>
      </p:pic>
      <p:pic>
        <p:nvPicPr>
          <p:cNvPr id="139" name="Muzyka-prirody-Shum-vody-penie-ptic-v-lesu (mp3cut.ru).mp3" descr=""/>
          <p:cNvPicPr/>
          <p:nvPr/>
        </p:nvPicPr>
        <p:blipFill>
          <a:blip r:embed="rId2"/>
          <a:stretch/>
        </p:blipFill>
        <p:spPr>
          <a:xfrm>
            <a:off x="826920" y="573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378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1256040" y="4724280"/>
            <a:ext cx="665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ши – орган слу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у..jpg"/>
          <p:cNvPicPr/>
          <p:nvPr/>
        </p:nvPicPr>
        <p:blipFill>
          <a:blip r:embed="rId1"/>
          <a:stretch/>
        </p:blipFill>
        <p:spPr>
          <a:xfrm>
            <a:off x="2124000" y="476280"/>
            <a:ext cx="475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Изображение.png"/>
          <p:cNvPicPr/>
          <p:nvPr/>
        </p:nvPicPr>
        <p:blipFill>
          <a:blip r:embed="rId1"/>
          <a:stretch/>
        </p:blipFill>
        <p:spPr>
          <a:xfrm>
            <a:off x="285840" y="1500120"/>
            <a:ext cx="86659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826920" y="308880"/>
            <a:ext cx="7848720" cy="49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 прави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е слушайте громко музык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огда моетесь, вода не должна попадать в у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Защищайте уши от вет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Не чистите уши острыми предм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Ежедневно мойте уш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523880" cy="152424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148" name="Прямоугольник 5"/>
          <p:cNvSpPr/>
          <p:nvPr/>
        </p:nvSpPr>
        <p:spPr>
          <a:xfrm>
            <a:off x="971640" y="537372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 узнали, что к органам чувств относятся орган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х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briola"/>
              </a:rPr>
              <a:t>Физкультминутк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упер физкультминутка для урока.mp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993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9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971640" y="337320"/>
            <a:ext cx="770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жду двух свет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ередине я оди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4284720" y="1502280"/>
            <a:ext cx="2879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(Нос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5"/>
          <p:cNvSpPr/>
          <p:nvPr/>
        </p:nvSpPr>
        <p:spPr>
          <a:xfrm>
            <a:off x="862200" y="5157720"/>
            <a:ext cx="770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с– орган обоняни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6" descr="н..jpg"/>
          <p:cNvPicPr/>
          <p:nvPr/>
        </p:nvPicPr>
        <p:blipFill>
          <a:blip r:embed="rId1"/>
          <a:stretch/>
        </p:blipFill>
        <p:spPr>
          <a:xfrm>
            <a:off x="3059280" y="2492280"/>
            <a:ext cx="3097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755640" y="588240"/>
            <a:ext cx="799308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к сохранить обоня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до закаляться, беречь организм от просту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лазить в нос посторонними предм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курить, так как  обоняние у курящих ухудшает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826920" y="5300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 с вами узнали, что к органам чувств относится орган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ня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9280" y="2923920"/>
            <a:ext cx="3457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ше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68360" y="836640"/>
            <a:ext cx="2592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лич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4" descr="WWW.OPEN.AZ Версия для печати ***СмАйлИкИ"/>
          <p:cNvPicPr/>
          <p:nvPr/>
        </p:nvPicPr>
        <p:blipFill>
          <a:blip r:embed="rId1"/>
          <a:stretch/>
        </p:blipFill>
        <p:spPr>
          <a:xfrm>
            <a:off x="6443640" y="4762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Смайлики картинки Сайт фотографий, картинок и анимаций"/>
          <p:cNvPicPr/>
          <p:nvPr/>
        </p:nvPicPr>
        <p:blipFill>
          <a:blip r:embed="rId2"/>
          <a:stretch/>
        </p:blipFill>
        <p:spPr>
          <a:xfrm>
            <a:off x="6300720" y="242100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Zemanta Related Posts Thumbnail Интересные статусы"/>
          <p:cNvPicPr/>
          <p:nvPr/>
        </p:nvPicPr>
        <p:blipFill>
          <a:blip r:embed="rId3"/>
          <a:stretch/>
        </p:blipFill>
        <p:spPr>
          <a:xfrm>
            <a:off x="6443640" y="4221000"/>
            <a:ext cx="2021040" cy="1828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1983240" y="4797360"/>
            <a:ext cx="43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много грус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User\Рабочий стол\Школьный клипарт\ef9a2aae22e6.jpg"/>
          <p:cNvPicPr/>
          <p:nvPr/>
        </p:nvPicPr>
        <p:blipFill>
          <a:blip r:embed="rId4"/>
          <a:stretch/>
        </p:blipFill>
        <p:spPr>
          <a:xfrm>
            <a:off x="468360" y="5084640"/>
            <a:ext cx="13716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971640" y="264960"/>
            <a:ext cx="7777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гда во рт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не проглотишь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4584240" y="1628640"/>
            <a:ext cx="19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Язык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779760" y="5373720"/>
            <a:ext cx="694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зык– орган вкус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5" descr="я.jpg"/>
          <p:cNvPicPr/>
          <p:nvPr/>
        </p:nvPicPr>
        <p:blipFill>
          <a:blip r:embed="rId1"/>
          <a:stretch/>
        </p:blipFill>
        <p:spPr>
          <a:xfrm>
            <a:off x="2916360" y="2492280"/>
            <a:ext cx="3600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826920" y="351360"/>
            <a:ext cx="78487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Как беречь органы вку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760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стить зубы, язык и щёки два раза в день (утром и вечером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760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приёма пищи прополоскать р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760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льзя есть горячую пи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7604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брать в рот острые предме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755640" y="472428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 узнали, что к органам чувств относится орган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ус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236000" y="4941720"/>
            <a:ext cx="1523880" cy="152424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826920" y="18900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жа – орган осяз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132000" y="1052640"/>
            <a:ext cx="2016360" cy="1584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971640" y="2847240"/>
            <a:ext cx="763272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авила ухода за ко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ую неделю мыть тело горячей водой с мы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цо, уши, шею мыть не реже двух раз в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можно чаще мойте руки с мылом и обязательно - перед каждым приемом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айтесь не ранить кожу, не допустить ожогов, обмор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забывайте регулярно подстригать ног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971640" y="5300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 узнали, что к органам чувств относится и орган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яза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Органы чувств человека (1).3gp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121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8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84360" y="17640"/>
            <a:ext cx="784836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Дополните высказы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 Глаза - это орган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Язык – это орган 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Уши – это орган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Нос – это орган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Кожа – это орган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Органы чувств нужно……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9" descr="img268"/>
          <p:cNvPicPr/>
          <p:nvPr/>
        </p:nvPicPr>
        <p:blipFill>
          <a:blip r:embed="rId1"/>
          <a:stretch/>
        </p:blipFill>
        <p:spPr>
          <a:xfrm>
            <a:off x="2340000" y="3645000"/>
            <a:ext cx="42688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900000" y="27972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ить на альбомном листе памятку (на выбор) гигиена органов чувств, используя учебник . (стр. 126-12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rcRect l="2665" t="0" r="4001" b="5010"/>
          <a:stretch/>
        </p:blipFill>
        <p:spPr>
          <a:xfrm>
            <a:off x="1258920" y="2492280"/>
            <a:ext cx="6481800" cy="403236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Спасибо за урок - Картинка 6575/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826920" y="404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826920" y="69228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называется  наука, которая изучает строение человек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3276720" y="1846440"/>
            <a:ext cx="25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(Анатомия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6"/>
          <p:cNvSpPr/>
          <p:nvPr/>
        </p:nvSpPr>
        <p:spPr>
          <a:xfrm>
            <a:off x="826920" y="2421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ие внутренние органы человека вы знает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900000" y="36464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(Сердце, легкие, желудок, печень, ….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8"/>
          <p:cNvSpPr/>
          <p:nvPr/>
        </p:nvSpPr>
        <p:spPr>
          <a:xfrm>
            <a:off x="826920" y="3860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кая система органов управляет деятельностью организ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627280" y="55911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(Нервная система.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55640" y="3200400"/>
            <a:ext cx="806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8360" y="471960"/>
            <a:ext cx="8280360" cy="606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ст наблюдений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.И. 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 шаг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пиши слова, которые помогут тебе на уро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 шаг. ВЫВ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толе листы картона ………, …….., ………   цвета. Определить цвет картона помогли 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сного, глаза, зеленого, желт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толе игрушки ………, …….., …….. Узнать “голос” каждого предмета помогли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гремушка, уши, барабан, д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робочках находится: ……, …, ….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пределить каждый предмет в коробочках нам помог наш ……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снок, лук, нос,  лим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таканах находится: …., …., …... Чтобы определить, какие вещества в стаканах, надо было попробовать их на …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м помог–  ….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ка, язык, соль, сахар, вку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ешочке находится:….., ……, ……….. Определить предметы смогли при помощи …. Нам помогла–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 мяч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лубок ниток , рук,  яблоко, ко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снок, лук, нос,  лим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 шаг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олни высказыва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 Глаза - это орган 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Язык – это орган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Уши – это орган 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Нос – это орган …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Кожа – это орган ……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Органы чувств нужно 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а для справок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язания, зрения, обоняния, слуха, вкуса, береч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а: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       4    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1049400" y="6206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863640" y="404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Чтоб окружающий мир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учать</a:t>
            </a:r>
            <a:r>
              <a:rPr b="1" i="1" lang="ru-RU" sz="32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Нужно уметь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блюдать</a:t>
            </a:r>
            <a:r>
              <a:rPr b="1" i="1" lang="ru-RU" sz="32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Признаки предметов любых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делять</a:t>
            </a:r>
            <a:r>
              <a:rPr b="1" i="1" lang="ru-RU" sz="32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Их общие и различные свойства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мечать</a:t>
            </a:r>
            <a:r>
              <a:rPr b="1" i="1" lang="ru-RU" sz="3200" spc="-1" strike="noStrike">
                <a:solidFill>
                  <a:srgbClr val="03070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3024360" cy="381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608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56275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briola"/>
              </a:rPr>
              <a:t>Работа в группа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302400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2124000" y="2852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755640" y="3357720"/>
            <a:ext cx="77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рол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е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читает задание вслух всей групп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кладч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ссказывает, что решила груп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ронометри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ледит за време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 разговоре должен участвовать кажд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оворить спокойно и яс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говорить только по де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Ы ЧУВСТ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2" descr="г.jpg"/>
          <p:cNvPicPr/>
          <p:nvPr/>
        </p:nvPicPr>
        <p:blipFill>
          <a:blip r:embed="rId1"/>
          <a:stretch/>
        </p:blipFill>
        <p:spPr>
          <a:xfrm>
            <a:off x="826920" y="1844640"/>
            <a:ext cx="2232360" cy="18003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н..jpg"/>
          <p:cNvPicPr/>
          <p:nvPr/>
        </p:nvPicPr>
        <p:blipFill>
          <a:blip r:embed="rId2"/>
          <a:stretch/>
        </p:blipFill>
        <p:spPr>
          <a:xfrm>
            <a:off x="3492360" y="299736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у..jpg"/>
          <p:cNvPicPr/>
          <p:nvPr/>
        </p:nvPicPr>
        <p:blipFill>
          <a:blip r:embed="rId3"/>
          <a:stretch/>
        </p:blipFill>
        <p:spPr>
          <a:xfrm>
            <a:off x="826920" y="4437000"/>
            <a:ext cx="2305080" cy="1859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я.jpg"/>
          <p:cNvPicPr/>
          <p:nvPr/>
        </p:nvPicPr>
        <p:blipFill>
          <a:blip r:embed="rId4"/>
          <a:stretch/>
        </p:blipFill>
        <p:spPr>
          <a:xfrm>
            <a:off x="6300720" y="1628640"/>
            <a:ext cx="2000160" cy="2016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р..jpg"/>
          <p:cNvPicPr/>
          <p:nvPr/>
        </p:nvPicPr>
        <p:blipFill>
          <a:blip r:embed="rId5"/>
          <a:srcRect l="0" t="0" r="0" b="-461"/>
          <a:stretch/>
        </p:blipFill>
        <p:spPr>
          <a:xfrm>
            <a:off x="6227640" y="4437000"/>
            <a:ext cx="2246400" cy="192096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8"/>
          <p:cNvCxnSpPr/>
          <p:nvPr/>
        </p:nvCxnSpPr>
        <p:spPr>
          <a:xfrm flipH="1">
            <a:off x="2842560" y="1341360"/>
            <a:ext cx="361080" cy="504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10"/>
          <p:cNvCxnSpPr/>
          <p:nvPr/>
        </p:nvCxnSpPr>
        <p:spPr>
          <a:xfrm flipH="1">
            <a:off x="2842560" y="1341000"/>
            <a:ext cx="1081800" cy="3025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Прямая со стрелкой 16"/>
          <p:cNvCxnSpPr/>
          <p:nvPr/>
        </p:nvCxnSpPr>
        <p:spPr>
          <a:xfrm>
            <a:off x="4571640" y="1413000"/>
            <a:ext cx="1080" cy="151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20"/>
          <p:cNvCxnSpPr/>
          <p:nvPr/>
        </p:nvCxnSpPr>
        <p:spPr>
          <a:xfrm>
            <a:off x="5364000" y="1412640"/>
            <a:ext cx="1153440" cy="2880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Прямая со стрелкой 22"/>
          <p:cNvCxnSpPr/>
          <p:nvPr/>
        </p:nvCxnSpPr>
        <p:spPr>
          <a:xfrm>
            <a:off x="5866920" y="1341360"/>
            <a:ext cx="50580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69108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688360" cy="396072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121" name="Прямоугольник 4"/>
          <p:cNvSpPr/>
          <p:nvPr/>
        </p:nvSpPr>
        <p:spPr>
          <a:xfrm>
            <a:off x="826920" y="40464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рганы чувст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99640" y="836280"/>
            <a:ext cx="77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 с братом через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гу живут, а  один другого не види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3419640" y="170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лаз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1403280" y="52318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за – орган зр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1251299478_8"/>
          <p:cNvPicPr/>
          <p:nvPr/>
        </p:nvPicPr>
        <p:blipFill>
          <a:blip r:embed="rId1"/>
          <a:stretch/>
        </p:blipFill>
        <p:spPr>
          <a:xfrm>
            <a:off x="2843280" y="2565360"/>
            <a:ext cx="3490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3" descr="Изображение.png"/>
          <p:cNvPicPr/>
          <p:nvPr/>
        </p:nvPicPr>
        <p:blipFill>
          <a:blip r:embed="rId1"/>
          <a:stretch/>
        </p:blipFill>
        <p:spPr>
          <a:xfrm>
            <a:off x="552600" y="1428840"/>
            <a:ext cx="830556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Владимир Марьин</cp:lastModifiedBy>
  <dcterms:modified xsi:type="dcterms:W3CDTF">2018-01-16T17:45:02Z</dcterms:modified>
  <cp:revision>76</cp:revision>
  <dc:subject/>
  <dc:title>Слайд 1</dc:title>
</cp:coreProperties>
</file>