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9.wmf" ContentType="image/x-wmf"/>
  <Override PartName="/ppt/media/image8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9C51-334A-496C-84F4-E08B4CDFD9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FD30-08EC-4419-B7A3-22A7297339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1EE-FDCD-404D-ACD0-CB3EAF17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EF4-BCF3-4379-9E11-B6787AC1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AB2-0FF6-40AC-A11B-E663E7AC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188-7014-4989-8554-4720DF28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E3FD-5A22-4B71-89A5-88BFDBEF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500F-4377-48B0-8CAC-3C15740C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0B64-A993-4E46-A37D-909E5015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A11A-7449-4C13-8B67-2EDB4DEA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44C4-2E8B-4130-8E0C-C8119AF7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27FA-416C-42D3-BAD7-886256B7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25E2-50DC-41AA-AB41-730977E7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6DF-6CD8-4F48-B827-F9D81BF1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AC1E-8A4A-4C1F-8BB9-DAEE15B3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1231-E847-4998-AF7B-6B06CC05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6DA3-1292-4CBF-9F0E-9B818C6C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5FF5-2CEA-4087-81D8-3A7DB632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3D53-89C8-4DEB-9171-2B1C0D1E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36D-38C5-4BC9-A15B-32442F9F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127-41EC-4079-9132-E3DAB635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E9D-495E-4AAA-8072-F71F5BBE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512-C169-43D8-B048-97B182F4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BE1-937A-4F26-9006-5CD55D34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090-9D5A-4024-9D13-436C1F67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567-66D8-4789-8C20-C1642A4E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302E-6FE2-479A-8F23-AC87D47E9D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1778-4716-4A7C-84C0-4A2E537802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1280" y="1413000"/>
            <a:ext cx="583272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кола раннего развития для будущих первоклассников  «Филиппо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 rot="151800">
            <a:off x="2568240" y="4859280"/>
            <a:ext cx="55054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уринская Татьяня Витальевн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КОУ «Троицкая СОШ № 62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октября 2013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Чему Учат В Школе.mp3" descr=""/>
          <p:cNvPicPr/>
          <p:nvPr/>
        </p:nvPicPr>
        <p:blipFill>
          <a:blip r:embed="rId1"/>
          <a:stretch/>
        </p:blipFill>
        <p:spPr>
          <a:xfrm>
            <a:off x="807228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125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http://im2-tub-ru.yandex.net/i?id=426500322-12-72&amp;n=21"/>
          <p:cNvPicPr/>
          <p:nvPr/>
        </p:nvPicPr>
        <p:blipFill>
          <a:blip r:embed="rId1"/>
          <a:stretch/>
        </p:blipFill>
        <p:spPr>
          <a:xfrm>
            <a:off x="900000" y="404640"/>
            <a:ext cx="1933560" cy="14288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2700360" y="333360"/>
            <a:ext cx="5759280" cy="89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Расписание занят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19.10.13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Развитие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Технолог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                      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26.10.13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Развитие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Из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Для занятий необходим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тетрадь в клетк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шариковая ручк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простой карандаш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альбо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цветные карандаш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клей – карандаш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цветной картон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цветная бумаг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портивная форма</a:t>
            </a:r>
            <a:r>
              <a:rPr b="0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3" descr="http://im7-tub-ru.yandex.net/i?id=162238874-12-72&amp;n=21"/>
          <p:cNvPicPr/>
          <p:nvPr/>
        </p:nvPicPr>
        <p:blipFill>
          <a:blip r:embed="rId1"/>
          <a:stretch/>
        </p:blipFill>
        <p:spPr>
          <a:xfrm>
            <a:off x="7020000" y="4797360"/>
            <a:ext cx="151272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11280" y="1268280"/>
            <a:ext cx="583272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Приглашаем к сотрудничеству!</a:t>
            </a:r>
            <a:br>
              <a:rPr sz="6600"/>
            </a:br>
            <a:br>
              <a:rPr sz="32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 rot="151800">
            <a:off x="3055680" y="5226840"/>
            <a:ext cx="4541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istral"/>
              </a:rPr>
              <a:t>Пора в школ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71280" y="836280"/>
            <a:ext cx="7715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Повестка собр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1. «Психологическая готовность детей к школе»-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Сутягина О.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2. « Организация работы в школе «Филиппок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«Учебно-дидактический материал в школе развития»  -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Гуринская Т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3. Работа с документац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C:\Documents and Settings\Иятта\Рабочий стол\ЭТО СРОЧНО\Новая папка\755ad610193c.png"/>
          <p:cNvPicPr/>
          <p:nvPr/>
        </p:nvPicPr>
        <p:blipFill>
          <a:blip r:embed="rId1"/>
          <a:stretch/>
        </p:blipFill>
        <p:spPr>
          <a:xfrm>
            <a:off x="6084720" y="3789360"/>
            <a:ext cx="2527560" cy="27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42560" y="765000"/>
            <a:ext cx="7643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  <a:ea typeface="Times New Roman"/>
              </a:rPr>
              <a:t>«Быть готовым к школе 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  <a:ea typeface="Times New Roman"/>
              </a:rPr>
              <a:t>              </a:t>
            </a:r>
            <a:r>
              <a:rPr b="1" i="1" lang="ru-RU" sz="3600" spc="-1" strike="noStrike">
                <a:solidFill>
                  <a:srgbClr val="17375e"/>
                </a:solidFill>
                <a:latin typeface="Monotype Corsiva"/>
                <a:ea typeface="Times New Roman"/>
              </a:rPr>
              <a:t>не значит уметь читать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  <a:ea typeface="Times New Roman"/>
              </a:rPr>
              <a:t>                                      </a:t>
            </a:r>
            <a:r>
              <a:rPr b="1" i="1" lang="ru-RU" sz="3600" spc="-1" strike="noStrike">
                <a:solidFill>
                  <a:srgbClr val="17375e"/>
                </a:solidFill>
                <a:latin typeface="Monotype Corsiva"/>
                <a:ea typeface="Times New Roman"/>
              </a:rPr>
              <a:t>писать и считат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17375e"/>
                </a:solidFill>
                <a:latin typeface="Monotype Corsiva"/>
                <a:ea typeface="Times New Roman"/>
              </a:rPr>
              <a:t>Быть готовым к школе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  <a:ea typeface="Times New Roman"/>
              </a:rPr>
              <a:t>              </a:t>
            </a:r>
            <a:r>
              <a:rPr b="1" i="1" lang="ru-RU" sz="3600" spc="-1" strike="noStrike">
                <a:solidFill>
                  <a:srgbClr val="17375e"/>
                </a:solidFill>
                <a:latin typeface="Monotype Corsiva"/>
                <a:ea typeface="Times New Roman"/>
              </a:rPr>
              <a:t>значит быть готовым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  <a:ea typeface="Times New Roman"/>
              </a:rPr>
              <a:t>                          </a:t>
            </a:r>
            <a:r>
              <a:rPr b="1" i="1" lang="ru-RU" sz="3600" spc="-1" strike="noStrike">
                <a:solidFill>
                  <a:srgbClr val="17375e"/>
                </a:solidFill>
                <a:latin typeface="Monotype Corsiva"/>
                <a:ea typeface="Times New Roman"/>
              </a:rPr>
              <a:t>всему этому научиться»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енгер Л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2" descr="http://im0-tub-ru.yandex.net/i?id=484407844-16-72&amp;n=21"/>
          <p:cNvPicPr/>
          <p:nvPr/>
        </p:nvPicPr>
        <p:blipFill>
          <a:blip r:embed="rId1"/>
          <a:stretch/>
        </p:blipFill>
        <p:spPr>
          <a:xfrm>
            <a:off x="1042920" y="4076640"/>
            <a:ext cx="2089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Стрелка вниз 9"/>
          <p:cNvSpPr/>
          <p:nvPr/>
        </p:nvSpPr>
        <p:spPr>
          <a:xfrm flipH="1">
            <a:off x="5553000" y="1484280"/>
            <a:ext cx="171360" cy="165744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низ 11"/>
          <p:cNvSpPr/>
          <p:nvPr/>
        </p:nvSpPr>
        <p:spPr>
          <a:xfrm>
            <a:off x="4427640" y="1484280"/>
            <a:ext cx="215640" cy="381636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низ 8"/>
          <p:cNvSpPr/>
          <p:nvPr/>
        </p:nvSpPr>
        <p:spPr>
          <a:xfrm>
            <a:off x="2411280" y="1484280"/>
            <a:ext cx="216000" cy="151308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низ 10"/>
          <p:cNvSpPr/>
          <p:nvPr/>
        </p:nvSpPr>
        <p:spPr>
          <a:xfrm>
            <a:off x="1403280" y="1557360"/>
            <a:ext cx="144360" cy="3024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55280" y="907560"/>
            <a:ext cx="74883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2060"/>
                </a:solidFill>
                <a:uFillTx/>
                <a:latin typeface="Monotype Corsiva"/>
              </a:rPr>
              <a:t>Психологическая готовность к шко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комплекс психических качеств, необходимых ребёнку для успешного обучения в школ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мотивационная   познавательная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   </a:t>
            </a: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волевая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                          </a:t>
            </a: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коммуникатив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MCj04379900000[1]"/>
          <p:cNvPicPr/>
          <p:nvPr/>
        </p:nvPicPr>
        <p:blipFill>
          <a:blip r:embed="rId1"/>
          <a:stretch/>
        </p:blipFill>
        <p:spPr>
          <a:xfrm>
            <a:off x="7380360" y="333360"/>
            <a:ext cx="1457280" cy="13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71280" y="620280"/>
            <a:ext cx="7715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Monotype Corsiva"/>
              </a:rPr>
              <a:t>создание условий для достижения единого старта детей дошкольного возраста при поступлении в 1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4" descr="http://im7-tub-ru.yandex.net/i?id=478433299-62-72&amp;n=21"/>
          <p:cNvPicPr/>
          <p:nvPr/>
        </p:nvPicPr>
        <p:blipFill>
          <a:blip r:embed="rId1"/>
          <a:stretch/>
        </p:blipFill>
        <p:spPr>
          <a:xfrm>
            <a:off x="5867280" y="3573360"/>
            <a:ext cx="24498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Школа ориентирована на удовлетворени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42560" y="1197000"/>
            <a:ext cx="7643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апросов родителей - в адаптации к школе будущих первокласснико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потребности детей сориентироваться в пространстве школы, в умении осознавать и понимать новый статус школьн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http://im3-tub-ru.yandex.net/i?id=451617821-17-72&amp;n=21"/>
          <p:cNvPicPr/>
          <p:nvPr/>
        </p:nvPicPr>
        <p:blipFill>
          <a:blip r:embed="rId1"/>
          <a:stretch/>
        </p:blipFill>
        <p:spPr>
          <a:xfrm>
            <a:off x="6804000" y="1916280"/>
            <a:ext cx="16477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http://im6-tub-ru.yandex.net/i?id=249849598-55-72&amp;n=21"/>
          <p:cNvPicPr/>
          <p:nvPr/>
        </p:nvPicPr>
        <p:blipFill>
          <a:blip r:embed="rId1"/>
          <a:stretch/>
        </p:blipFill>
        <p:spPr>
          <a:xfrm>
            <a:off x="3851280" y="2708280"/>
            <a:ext cx="1933560" cy="1428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еимущества Школы «Филиппо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хема 12" descr=""/>
          <p:cNvPicPr/>
          <p:nvPr/>
        </p:nvPicPr>
        <p:blipFill>
          <a:blip r:embed="rId2"/>
          <a:stretch/>
        </p:blipFill>
        <p:spPr>
          <a:xfrm>
            <a:off x="1036800" y="1547640"/>
            <a:ext cx="7358040" cy="448164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3419640" y="3284640"/>
            <a:ext cx="259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11280" y="2205000"/>
            <a:ext cx="5832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КОУ «Троицкая СОШ № 62»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 октября 2013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я 2014 г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ут проводиться занятия по программе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Школа будущего первоклассника» </a:t>
            </a:r>
            <a:br>
              <a:rPr sz="20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 rot="151800">
            <a:off x="3055680" y="5226840"/>
            <a:ext cx="4541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istral"/>
              </a:rPr>
              <a:t>Пора в школ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1341000"/>
            <a:ext cx="7499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ежим рабо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ая  суббо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10.00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учебных занятия по 30 мину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Развитие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Матема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Изо ( Музыка,Танцы, Физкультура, Информатика, Иностранный язык, занятие с психологом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http://im2-tub-ru.yandex.net/i?id=426500322-12-72&amp;n=21"/>
          <p:cNvPicPr/>
          <p:nvPr/>
        </p:nvPicPr>
        <p:blipFill>
          <a:blip r:embed="rId1"/>
          <a:stretch/>
        </p:blipFill>
        <p:spPr>
          <a:xfrm>
            <a:off x="755640" y="404640"/>
            <a:ext cx="19335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123</cp:lastModifiedBy>
  <dcterms:modified xsi:type="dcterms:W3CDTF">2014-04-07T08:24:24Z</dcterms:modified>
  <cp:revision>59</cp:revision>
  <dc:subject/>
  <dc:title>Слайд 1</dc:title>
</cp:coreProperties>
</file>