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864-6DA7-49E8-918A-87EA0B18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BC0-9DF5-4622-9A58-26036133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8D8-DD8D-41B7-92C2-31161D6F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BE0-C083-435C-894C-E888B82F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A35-7092-4DA6-9375-FD31A3D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847-0E87-4CFE-B993-FCAFB6ED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FB-A5C2-401A-9B79-34443A2F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165-D5FD-490E-9DE1-C6338172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EAA-10A8-4629-BF3C-E4D6DC78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1DA-2F3E-464B-9BF3-82B00EE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E6B-9AFE-4799-91AE-58BD984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EC2-C6F6-4C83-B48F-34BF8DD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D8C6-9C3D-4268-A100-D5BB954C1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052280"/>
            <a:ext cx="597384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Родительское собра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 4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C:\СОХРАНИТЬ\поход РТС\SDC13275.JPG"/>
          <p:cNvPicPr/>
          <p:nvPr/>
        </p:nvPicPr>
        <p:blipFill>
          <a:blip r:embed="rId1"/>
          <a:srcRect l="4510" t="26582" r="5613" b="12980"/>
          <a:stretch/>
        </p:blipFill>
        <p:spPr>
          <a:xfrm>
            <a:off x="3851280" y="2781360"/>
            <a:ext cx="4176720" cy="246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571840" y="52862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Учитель начальных классов,МКОУ «Троицкая СОШ №6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Гуринская Татьяна Вита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15 октября 201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</a:rPr>
              <a:t>Приглашаем к сотрудничеству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19280" y="981000"/>
            <a:ext cx="5267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овестка собр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1. Возрастные особенности детей 9 – 10 л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2. Составление плана работы на 2013-2014 уч.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3. Организационные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Физ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Интеллекту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Эмоцион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Соци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Духов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843280" y="-4860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Возрастные особенности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9 – 10 лет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627280" y="260280"/>
            <a:ext cx="6192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 Ребенок этого возраста очень   активен. Любит приключения, физические упражнения, иг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2. </a:t>
            </a: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Может пренебрегать своим внешним ви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Сове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Использовать прогулки, поезд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Обучать ребенка личной гигиене, уходу за своей одеждой, комнатой, приучать к пунктуа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24000" y="333000"/>
            <a:ext cx="65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                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Нравится исследовать все, что незнакомо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Понимает законы последовательности и последствия. Имеет хорошее историческое и хронологическое чувство времени, пространства, расстояния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Хорошо мыслит и его понимание абстрактного растет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4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Нравится делать коллекции. Собирает все, что угодно. Для него главное не качество, а количество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5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«Золотой возраст памя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             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</a:rPr>
              <a:t>Сове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Обучение через исследование. Задавайте свои «почему?»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Идти дальше поверхностных фактов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3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Поставить вопросы, ответы на которые ребенок сможет найти самостоятельно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редложить делать коллекци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5.  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Поощрять к запоминанию как можно большего количества стихов, обогащающих его словарный запас. Он может знать географию и историю своей малой родины, иметь хорошее представление о хронологической последовательности собы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95280" y="189000"/>
            <a:ext cx="6948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               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Monotype Corsiva"/>
              </a:rPr>
              <a:t>Эмоциона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Резко выражает свои чувства. Сначала говорит, а потом думает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Свободно выражает свои эмоции. Эмоционально быстро включается в споры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3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Начинает развиваться чувство юмора. Желает рассказывать смешные истори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4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Скрытые страхи. Ему хотелось бы выглядеть бесстраш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         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Monotype Corsiva"/>
              </a:rPr>
              <a:t>Сове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Учить самоконтролю: когда быть серьезным и спокойным, а когда быть веселым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Учить терпимости и самоконтролю. Рассматривать все факты до принятия решения. Учить уважать права и чувства других людей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3.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 Научить смеяться над собой. Не произносить тех шуток, которые будут оскорблять других людей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Учить свободе от страха, учиться понимать конкретные проблемы и преодолевать тр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71280" y="333000"/>
            <a:ext cx="5915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         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1. Ребенок начинает быть самостоятельным. Приспосабливается к обществу вне семейного круга. Ищет группу ровесников того же пола, т.к. для девочек мальчики «слишком шумны и буйны», а для мальчиков девочки «слишком глуп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  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Сове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ить дружелюбию, не изолировать себя от сверстников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95280" y="620280"/>
            <a:ext cx="64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Духо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Ребенок ищет героев, выбирая тех людей, которых он видит, о которых читает, восхищается теми, кто делает то, что он хотел бы сделать. Желает понравиться выбранным им авторитета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2. 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Нравятся захватывающие расска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Со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1.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Познакомить с детством известных людей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2.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Рассказывать захватывающие истории о сверстни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59280" y="333000"/>
            <a:ext cx="562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Monotype Corsiva"/>
              </a:rPr>
              <a:t>- </a:t>
            </a: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Какие темы лекториев для родительских собраний являются наиболее актуальным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- Каких специалистов вам хотелось бы пригласить на  собрание? Какие вопросы вы задали бы им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-  Какие традиционные воспитательные мероприятия вы хотели бы оставить в этом году? Что новое в план воспитательной работе класса вы предлагаете внест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Monotype Corsiva"/>
              </a:rPr>
              <a:t>-  Какую форму проведения выпускного вечера вы бы хотели предложить? Какие мероприятия по подготовке выпускного вечера необходимо намети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Monotype Corsiv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123</cp:lastModifiedBy>
  <dcterms:modified xsi:type="dcterms:W3CDTF">2014-04-07T08:28:26Z</dcterms:modified>
  <cp:revision>13</cp:revision>
  <dc:subject/>
  <dc:title>Презентация PowerPoint</dc:title>
</cp:coreProperties>
</file>